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7BD5-DC7A-4389-8A1A-D66402AF5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CB4E-23F5-46F0-8ED7-00405FDFD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63E8-5CCE-4511-89FE-BC8A0066B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D24A-5271-4320-B3EB-69173E866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65AD6-2D43-42BB-8635-FA99DB547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A2E8A-AB10-4D8E-883A-ACDD38E11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B2A0B-8CAE-4A0E-A3C4-D142E2AFA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40FD5-C121-4F0C-9A8B-049B13D14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EE9A8-6E40-4DBA-8189-58A6DD3A7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E3423-DE1C-4DCA-B6C1-ECA1AAE17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A54CB-73DF-4A6B-9D17-E9BA10AEF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9D89-09C6-4AB8-86ED-CE18EF222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B7FE5-3072-4885-93F0-76F7288A4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2030C-DE26-431C-A867-C3B1D6B68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F83AC-7351-4412-B096-D46732436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F3C5B-87DA-4EED-9911-B9B5D1432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C0C28-8CA0-47A4-819F-F04D3E70B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0EE0-FB6E-4AA4-A1AF-1F84D39ED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579E-6E14-4522-8DF3-ED863DBB0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74E3-AE1E-4728-9CFC-61A54AFB4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00FF-7ECA-44EB-999D-514FF2EE8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B0B8-B1F0-4B61-94C6-4268C3B56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92B2-9257-48C1-99B3-96F06F770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DA33-0B08-48ED-84BF-FB0713181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00cc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00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901FE-D66A-448C-B98C-01170393B2A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7B8AC-C6E4-45DC-97F6-DAE8955886B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00cc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00cc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fahrenheit.scuole.bo.it/" TargetMode="Externa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fahrenheit.scuole.bo.it/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PROGETTO </a:t>
            </a:r>
            <a:br>
              <a:rPr sz="4000"/>
            </a:b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FAHRENHEIT 451</a:t>
            </a: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2924280"/>
            <a:ext cx="7239240" cy="22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Verdana"/>
              </a:rPr>
              <a:t>Un progetto di promozione della lettura e della scrittura, con l’utilizzo delle nuove tecnologie</a:t>
            </a:r>
            <a:r>
              <a:rPr b="1" lang="en-US" sz="2400" spc="-1" strike="noStrike">
                <a:solidFill>
                  <a:srgbClr val="0000cc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cc"/>
                </a:solidFill>
                <a:uFillTx/>
                <a:latin typeface="Verdana"/>
              </a:rPr>
              <a:t>nato dalla Scuola, per la Scuola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cc"/>
                </a:solidFill>
                <a:uFillTx/>
                <a:latin typeface="Verdana"/>
              </a:rPr>
              <a:t>realizzato dalla Scuol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Elviana Ama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A8199-147E-474D-9BDC-CCB1D957662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PROGETTO FAHRENHEIT 451 </a:t>
            </a:r>
            <a:br>
              <a:rPr sz="3200"/>
            </a:b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Come è nato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Istituito nel 1991, in una Scuola media di Bologna, con una utenza piuttosto problematica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la promozione della lettura all’interno del progetto Ragazzi 2000, come strumento di “Benessere” per gli allievi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l’idea portante, innovativa,  è stata promuovere la lettura e la scrittura coniugandole con l’utilizzo delle Nuove tecnologie, da poco presenti nella Scuola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viana Ama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F25D-5F3B-4949-9C1B-78CB438759A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PROGETTO FAHRENHEIT 451 </a:t>
            </a:r>
            <a:br>
              <a:rPr sz="3200"/>
            </a:b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Come funzionava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 ragazzi della scuola media leggevano dei libri e poi scrivevano con il PC la recensione del libro che li aveva colpiti, inviandola su floppy disk alla Commissione Lettura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La recensione, non la scheda di lettura!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viana Ama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61F2-F024-4515-9FEF-978D6121A61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PROGETTO FAHRENHEIT 451 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Destinatari attuali del progetto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tudenti della scuola primari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aria di I° Grado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aria di II° grado. biennio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È aperto a tutte le scuole che si iscrivono al progetto, della provincia, della regione E/R, di altre regione d’Italia e anche di altre nazioni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viana Ama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F23C-32B6-4FA2-97BD-FD6CD338A97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PROGETTO FAHRENHEIT 451 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Selezione dei vincitori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La commissione, su 2000 recensioni, individua 80-90 vincitori complessivamente, per la valorizzazione di varie forme di recension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Vengono premiati con un buono –libro, individuale, per acquisto di libri presso una libreria designata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viana Ama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F634-B9C9-4891-AB1D-A7905ECF67D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PROGETTO FAHRENHEIT 451 </a:t>
            </a:r>
            <a:br>
              <a:rPr sz="3200"/>
            </a:b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Come funziona ora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69800" y="1628640"/>
            <a:ext cx="7313400" cy="43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Da anni esistono </a:t>
            </a:r>
            <a:r>
              <a:rPr b="1" lang="it-IT" sz="2500" spc="-1" strike="noStrike">
                <a:solidFill>
                  <a:srgbClr val="000000"/>
                </a:solidFill>
                <a:latin typeface="Verdana"/>
              </a:rPr>
              <a:t>un sito</a:t>
            </a: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 dedicato al progetto al quale vengono inviate le recensioni scritte dai ragazzi ed </a:t>
            </a:r>
            <a:r>
              <a:rPr b="1" lang="it-IT" sz="2500" spc="-1" strike="noStrike">
                <a:solidFill>
                  <a:srgbClr val="000000"/>
                </a:solidFill>
                <a:latin typeface="Verdana"/>
              </a:rPr>
              <a:t>un motore di ricerca</a:t>
            </a: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 che le archivia automaticament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L’invio inizia e termina secondo le indicazioni di un bando diffuso dall’U.S.P./U.S.R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Scaduto il bando, le recensioni vengono estratte, fotocopiate e lette e selezionate da una Commissione di Lettura Provinciale, composta da docenti dei tre ordini di scuola, anche in quiescenza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viana Ama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E0F8-F548-4796-BE9E-0A92C8FB5FE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PROGETTO FAHRENHEIT 451 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Andamento del progetto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 rivelò subito un successo che perdura anche ora, giunto alla XVII° edizione - 2010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irca 2000 recensioni inviate ogni anno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Una banca dati di più di 20.000 recensioni, di cui più di 10.000 consultabili con il motore di ricerca attivo da alcuni anni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viana Ama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55B6-D3D1-4177-B58C-F08FBBAF89E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PROGETTO FAHRENHEIT 451 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Validazioni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0000cc"/>
                </a:solidFill>
                <a:latin typeface="Verdana"/>
              </a:rPr>
              <a:t>E’ stato selezionato come progetto esemplare</a:t>
            </a:r>
            <a:r>
              <a:rPr b="0" lang="it-IT" sz="2100" spc="-1" strike="noStrike">
                <a:solidFill>
                  <a:srgbClr val="0000cc"/>
                </a:solidFill>
                <a:latin typeface="Verdana"/>
              </a:rPr>
              <a:t> ed inserito nel CD-Rom “Il Vizio di Leggere</a:t>
            </a:r>
            <a:r>
              <a:rPr b="0" lang="it-IT" sz="2100" spc="-1" strike="noStrike">
                <a:solidFill>
                  <a:srgbClr val="000000"/>
                </a:solidFill>
                <a:latin typeface="Verdana"/>
              </a:rPr>
              <a:t>”, diffuso a livello nazionale dal M.P.I. </a:t>
            </a:r>
            <a:r>
              <a:rPr b="0" lang="it-IT" sz="2100" spc="-1" strike="noStrike">
                <a:solidFill>
                  <a:srgbClr val="0000cc"/>
                </a:solidFill>
                <a:latin typeface="Verdana"/>
              </a:rPr>
              <a:t>al termine del </a:t>
            </a:r>
            <a:r>
              <a:rPr b="1" lang="it-IT" sz="2100" spc="-1" strike="noStrike">
                <a:solidFill>
                  <a:srgbClr val="0000cc"/>
                </a:solidFill>
                <a:latin typeface="Verdana"/>
              </a:rPr>
              <a:t>Piano Nazionale di Promozione della Lettura</a:t>
            </a:r>
            <a:r>
              <a:rPr b="0" lang="it-IT" sz="21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0000cc"/>
                </a:solidFill>
                <a:latin typeface="Verdana"/>
              </a:rPr>
              <a:t>E’ stato inserito nel sito della B.D.P. di Firenze</a:t>
            </a:r>
            <a:r>
              <a:rPr b="0" lang="it-IT" sz="21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it-IT" sz="2100" spc="-1" strike="noStrike">
                <a:solidFill>
                  <a:srgbClr val="000000"/>
                </a:solidFill>
                <a:latin typeface="Verdana"/>
              </a:rPr>
              <a:t>come progetto di particolare interesse per la didattica</a:t>
            </a:r>
            <a:r>
              <a:rPr b="0" lang="it-IT" sz="21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0000cc"/>
                </a:solidFill>
                <a:latin typeface="Verdana"/>
              </a:rPr>
              <a:t>E’ stato valutato tra i “Buoni Esempi”</a:t>
            </a:r>
            <a:r>
              <a:rPr b="1" lang="it-IT" sz="2100" spc="-1" strike="noStrike">
                <a:solidFill>
                  <a:srgbClr val="000000"/>
                </a:solidFill>
                <a:latin typeface="Verdana"/>
              </a:rPr>
              <a:t> di progetti realizzati dalla P. A. anche in collaborazione con  altri Organismi, e inserito nel sito dedicato della Pubblica Amministrazione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viana Ama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8E6D-225C-4309-9A82-2883D9EDDC8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Gli elementi del successo</a:t>
            </a:r>
            <a:br>
              <a:rPr sz="3200"/>
            </a:b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 presso gli studenti - 1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628640"/>
            <a:ext cx="7313400" cy="43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i rivolge allo </a:t>
            </a:r>
            <a:r>
              <a:rPr b="0" lang="en-US" sz="2500" spc="-1" strike="noStrike">
                <a:solidFill>
                  <a:srgbClr val="0000cc"/>
                </a:solidFill>
                <a:latin typeface="Verdana"/>
              </a:rPr>
              <a:t>studente come soggetto attivo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nella scuol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cc"/>
                </a:solidFill>
                <a:latin typeface="Verdana"/>
              </a:rPr>
              <a:t>Lo studente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lettore </a:t>
            </a:r>
            <a:r>
              <a:rPr b="0" lang="en-US" sz="2500" spc="-1" strike="noStrike">
                <a:solidFill>
                  <a:srgbClr val="0000cc"/>
                </a:solidFill>
                <a:latin typeface="Verdana"/>
              </a:rPr>
              <a:t>è protagonista delle scelte di lettura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e della </a:t>
            </a:r>
            <a:r>
              <a:rPr b="0" lang="en-US" sz="2500" spc="-1" strike="noStrike">
                <a:solidFill>
                  <a:srgbClr val="0000cc"/>
                </a:solidFill>
                <a:latin typeface="Verdana"/>
              </a:rPr>
              <a:t>decisione di scrivere le sue riflessioni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su uno o più libri letti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cc"/>
                </a:solidFill>
                <a:latin typeface="Verdana"/>
              </a:rPr>
              <a:t>La scelta di lettura non è preordinat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cc"/>
                </a:solidFill>
                <a:latin typeface="Verdana"/>
              </a:rPr>
              <a:t>La forma della scrittura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ha solo limiti di ampiezza, ma </a:t>
            </a:r>
            <a:r>
              <a:rPr b="0" lang="en-US" sz="2500" spc="-1" strike="noStrike">
                <a:solidFill>
                  <a:srgbClr val="0000cc"/>
                </a:solidFill>
                <a:latin typeface="Verdana"/>
              </a:rPr>
              <a:t>non è preordinat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cc"/>
                </a:solidFill>
                <a:latin typeface="Verdana"/>
              </a:rPr>
              <a:t>Lo studente scrive per i suoi coetanei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indicazioni utili per leggere o non leggere un libro 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viana Ama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AF43-FE8F-49A0-A239-66558F34DF1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Gli elementi del successo</a:t>
            </a:r>
            <a:br>
              <a:rPr sz="3200"/>
            </a:b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 presso gli studenti - 2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 suoi pensieri, comunque espressi, entrano in un archivio informatizzato, e </a:t>
            </a: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restano consultabili nel tempo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Hanno visibilità e dignità di lettur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Viene premiato con un buono di acquisto, tutto suo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È ancora una volta protagonista nella scelta dei libri da acquistar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viana Ama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3019-7AEC-44C9-9833-053AA6DB578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Gli elementi del successo </a:t>
            </a:r>
            <a:br>
              <a:rPr sz="3200"/>
            </a:b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presso i docenti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rea un’occasione di motivazione alla lettura e alla scrittur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Offre l’opportunità di un utilizzo consapevole di Internet in collegamento e non in antitesi alla lettura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Offre un archivio di recensioni, utile spunto alla didattic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Offre un osservatorio sulle scelte di lettura significative per i ragazzi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viana Ama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0786-BFF3-40A7-8D2C-D746FE2DF07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PROGETTO FAHRENHEIT 451</a:t>
            </a:r>
            <a:br>
              <a:rPr sz="3200"/>
            </a:b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LA RICERCA</a:t>
            </a: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69800" y="1628280"/>
            <a:ext cx="731340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Verdana"/>
              </a:rPr>
              <a:t>Come leggono i ragazzi?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Verdana"/>
              </a:rPr>
              <a:t>Che emozioni traggono dalla lettura?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Verdana"/>
              </a:rPr>
              <a:t>Quale spirito li anima mentre scelgono un libro?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Verdana"/>
              </a:rPr>
              <a:t>E dopo, quali e quanti ricordi restano di ciò che hanno letto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Verdana"/>
              </a:rPr>
              <a:t>Possono le Nuove Tecnologie essere di supporto alla promozione della lettura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viana Ama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7FE3-B0F2-46C8-B239-7373514B756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PROGETTO FAHRENHEIT 451 </a:t>
            </a:r>
            <a:br>
              <a:rPr sz="3200"/>
            </a:b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Le collaborazioni per il successo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69800" y="1628640"/>
            <a:ext cx="7313400" cy="43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Gli Uffici Scolastici Provinciale e Regional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Gli Enti territoriali e le Agenzie produttive del Territorio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I Dirigenti scolastici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I Docenti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La Commissione Lettur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Il Gruppo docenti esperti delle nuove tecnologie: Progetto Provinciale Marconi e sviluppo informatico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Il personale della Scuola coordinatric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viana Ama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BFBD-903C-4025-8B10-567F1B37273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403280" y="333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Le collaborazioni per il successo:</a:t>
            </a:r>
            <a:br>
              <a:rPr sz="2800"/>
            </a:b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Gli Uffici Scolastici Provinciale e Regionale</a:t>
            </a:r>
            <a:br>
              <a:rPr sz="2000"/>
            </a:b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Gli Enti territoriali e le Agenzie produttive del Territorio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Gli Uffici Scolastici Provinciale e Regional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hanno nel tempo impegnato risorse umane e finanziarie, favorendo anche la diffusione dell’iniziativa presso le scuol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Gli Enti territoriali e le Agenzie produttiv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hanno apprezzato la promozione della lettura come strumento di positiva crescita della persona e quindi della qualificazione del territorio stess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viana Ama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CBF0-FBC3-4812-8192-9555D5C0B6C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Le collaborazioni per il successo:</a:t>
            </a:r>
            <a:br>
              <a:rPr sz="3200"/>
            </a:b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i Dirigenti scolastici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ostengono l’importanza della promozione della lettura e della scrittur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romuovono la diffusione del progetto e la partecipazione dei docenti e degli alunni alle attività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Favoriscono la partecipazione degli alunni vincitori, dei docenti, delle classi alla premiazione, giornata significativa nel progetto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viana Ama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9899-EB7D-4520-9664-7ADE96D4315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Le collaborazioni per il successo: </a:t>
            </a:r>
            <a:br>
              <a:rPr sz="3200"/>
            </a:b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I Docenti</a:t>
            </a: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Indispensabile la collaborazione di numerosissimi docenti delle scuole: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hanno colto gli elementi di adesione al progetto da parte dei ragazzi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i sono mostrati particolarmente sensibili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cc"/>
                </a:solidFill>
                <a:latin typeface="Verdana"/>
              </a:rPr>
              <a:t>all’ importanza di promuovere la lettura e la scrittura </a:t>
            </a:r>
            <a:r>
              <a:rPr b="1" lang="en-US" sz="2500" spc="-1" strike="noStrike">
                <a:solidFill>
                  <a:srgbClr val="0000cc"/>
                </a:solidFill>
                <a:latin typeface="Verdana"/>
              </a:rPr>
              <a:t>come piaceri</a:t>
            </a:r>
            <a:r>
              <a:rPr b="0" lang="en-US" sz="2500" spc="-1" strike="noStrike">
                <a:solidFill>
                  <a:srgbClr val="0000cc"/>
                </a:solidFill>
                <a:latin typeface="Verdana"/>
              </a:rPr>
              <a:t>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cc"/>
                </a:solidFill>
                <a:latin typeface="Verdana"/>
              </a:rPr>
              <a:t>all’esigenza di coniugare la nuove tecnologie alla lettura e alla scrittura, conservando al libro un ruolo insostituibil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viana Ama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1495-513B-4925-8E81-18D23CFE883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Le collaborazioni per il successo: </a:t>
            </a:r>
            <a:br>
              <a:rPr sz="3200"/>
            </a:b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la Commissione Lettura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369800" y="1628640"/>
            <a:ext cx="73054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terminante il loro ruolo per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vere saputo </a:t>
            </a:r>
            <a:r>
              <a:rPr b="0" lang="en-US" sz="2400" spc="-1" strike="noStrike">
                <a:solidFill>
                  <a:srgbClr val="0000cc"/>
                </a:solidFill>
                <a:latin typeface="Verdana"/>
              </a:rPr>
              <a:t>condividere i criteri di selezio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Verdana"/>
              </a:rPr>
              <a:t>Avere formulato criteri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volti a premiare, in particolare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’originalità, la “freschezza”, la profondità delle riflessioni, la capacità di esprimere visioni specifiche sul testo letto, l’avere affrontato testi impegnativi per l’età dei lettori, accanto naturalmente alle caratteristiche formali del tes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Verdana"/>
              </a:rPr>
              <a:t>Avere lavorato con appassionata partecipazione e competenz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in modo quasi sempre gratui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viana Ama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3F70-6EEF-401A-A526-6785A9A1CAC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Le collaborazioni per il successo: </a:t>
            </a:r>
            <a:br>
              <a:rPr sz="3200"/>
            </a:b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Il Gruppo docenti esperti delle nuove tecnologie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69800" y="1773000"/>
            <a:ext cx="73134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E’ stato determinante avere avuto il supporto: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cc"/>
                </a:solidFill>
                <a:latin typeface="Verdana"/>
              </a:rPr>
              <a:t>di un gruppo docenti del Progetto Provinciale Marconi</a:t>
            </a: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 (qualificazione didattica attraverso le nuove tecnologie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cc"/>
                </a:solidFill>
                <a:latin typeface="Verdana"/>
              </a:rPr>
              <a:t>di un  docente di Informatica</a:t>
            </a: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 (ITIS Belluzzi - Bologna), particolarmente sensibile alla lettura e all’utilizzo delle nuove tecnologie per la promozione della lettura, </a:t>
            </a:r>
            <a:r>
              <a:rPr b="0" lang="it-IT" sz="2500" spc="-1" strike="noStrike">
                <a:solidFill>
                  <a:srgbClr val="0000cc"/>
                </a:solidFill>
                <a:latin typeface="Verdana"/>
              </a:rPr>
              <a:t>e dei suoi alunni</a:t>
            </a: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, per la creazione di banche dati informatizzate consultabili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viana Ama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57B0-8513-4280-85E1-DF89D78C51A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Le collaborazioni per il successo: </a:t>
            </a:r>
            <a:br>
              <a:rPr sz="3200"/>
            </a:b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Il Personale della Scuola Coordinatrice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La scuola Coordinatrice è molto coinvolta, con il Dirigente scolastico e il personale  ATA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cc"/>
                </a:solidFill>
                <a:latin typeface="Verdana"/>
              </a:rPr>
              <a:t>Dirigente scolastico</a:t>
            </a:r>
            <a:r>
              <a:rPr b="1" lang="it-IT" sz="14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Verdana"/>
              </a:rPr>
              <a:t>reperimento fondi</a:t>
            </a: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, raccordi con USP, USR ed Enti e Agenzie territorio, raccordo con Commissione lettura, Gruppo esperti informatici, organizzazione premiazione,</a:t>
            </a:r>
            <a:r>
              <a:rPr b="1" lang="it-IT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etc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cc"/>
                </a:solidFill>
                <a:latin typeface="Verdana"/>
              </a:rPr>
              <a:t>ATA</a:t>
            </a:r>
            <a:r>
              <a:rPr b="1" lang="it-IT" sz="1600" spc="-1" strike="noStrike">
                <a:solidFill>
                  <a:srgbClr val="000000"/>
                </a:solidFill>
                <a:latin typeface="Verdana"/>
              </a:rPr>
              <a:t> - Segreteria del progetto</a:t>
            </a: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fornire informazioni alle scuole partecipanti, ai docenti, alle famiglie dei vincitori, raccordo con la Commissione lettur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cc"/>
                </a:solidFill>
                <a:latin typeface="Verdana"/>
              </a:rPr>
              <a:t>ATA</a:t>
            </a:r>
            <a:r>
              <a:rPr b="1" lang="it-IT" sz="1600" spc="-1" strike="noStrike">
                <a:solidFill>
                  <a:srgbClr val="000000"/>
                </a:solidFill>
                <a:latin typeface="Verdana"/>
              </a:rPr>
              <a:t> - Supporto operativo</a:t>
            </a: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: stampa delle recensioni, comunicazioni ai numerosi vincitori, verifica ricezione comunicazione, predisposizione attestati per i vincitori e le scuole dei vincitori; allestimento premiazione, con trasporto materiali e attrezzature alla sala della premiazione, accoglienza degli studenti, delle famiglie, delle class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cc"/>
                </a:solidFill>
                <a:latin typeface="Verdana"/>
              </a:rPr>
              <a:t>ATA - </a:t>
            </a:r>
            <a:r>
              <a:rPr b="1" lang="it-IT" sz="1600" spc="-1" strike="noStrike">
                <a:solidFill>
                  <a:srgbClr val="000000"/>
                </a:solidFill>
                <a:latin typeface="Verdana"/>
              </a:rPr>
              <a:t>Supporto amministrativo</a:t>
            </a: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: gestione fondi e raccordo con la libreria dei Buono - libro,con la tipografia,  con le Agenzie ed Enti finanziator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viana Ama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F96F-2E11-42EF-AC96-94D1721EFDE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PROGETTO FAHRENHEIT 451 </a:t>
            </a:r>
            <a:br>
              <a:rPr sz="3200"/>
            </a:b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Cosa ci spinge a continuare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La gratificazione di più di 2000 lettori che ci scrivono ogni anno sui libri letti, per loro particolarmente significativi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Una banca dati di più di 20.000 recensioni scritte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Un sito dedicato che conta ormai più di 200.000 visitatori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viana Ama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32B5-5912-4A8C-BB74-40C74809F34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PROGETTO FAHRENHEIT 451 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POSSIBILI SVILUPPI - 1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Una sezione del concorso e del  sito dedicata alle recensioni di e-book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2900" spc="-1" strike="noStrike">
                <a:solidFill>
                  <a:srgbClr val="0000cc"/>
                </a:solidFill>
                <a:latin typeface="Verdana"/>
              </a:rPr>
              <a:t>la modalità di lettura, influisce sulle sensazioni del lettore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?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viana Ama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09E8-DC2F-45C2-9373-206BB0291EA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PROGETTO FAHRENHEIT 451 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POSSIBILI SVILUPPI - 2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Il concorso esteso alle Scuole italiane all’Estero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2900" spc="-1" strike="noStrike">
                <a:solidFill>
                  <a:srgbClr val="0000cc"/>
                </a:solidFill>
                <a:latin typeface="Verdana"/>
              </a:rPr>
              <a:t>la cultura del paese in cui si vive cambia le sensazioni del lettore?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viana Ama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2AEE-4AB6-4608-ABD5-384F4B40F21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PROGETTO FAHRENHEIT 451</a:t>
            </a:r>
            <a:br>
              <a:rPr sz="3200"/>
            </a:b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LA RICERCA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403280" y="1628280"/>
            <a:ext cx="731376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Verdana"/>
              </a:rPr>
              <a:t>Rappresenta un osservatorio aggiorna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lle scelte di lettura dei giovanissimi e giovani lettori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lla ricaduta nelle scelte di lettura delle novità editorial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Verdana"/>
              </a:rPr>
              <a:t>E’ strumento significativo per la costruzione di un rapporto attivo tr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’utenza scolastica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’attività didattic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 Istituzioni e le Agenzie del Territorio,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ttraverso attività fondamentali di formazione personale e di qualificazione, quale la lettura e la scrittur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viana Ama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0693-5F4B-4A67-8D04-9EFC84B0B9D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Il Progetto Fahrenheit 451</a:t>
            </a:r>
            <a:br>
              <a:rPr sz="3200"/>
            </a:b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Un modello riproducibile - 1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Ha una dimensione eminentemente provinciale, con adesioni estese  a tutta Italia attraverso la diffusione via Interne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La prima risorsa, imprescindibile,  di cui necessita è quella uman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ccorrono anche risorse gestionali,  finanziarie e logistich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viana Ama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349C-0389-472B-95D0-5FD7033C070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Il Progetto Fahrenheit 451</a:t>
            </a:r>
            <a:br>
              <a:rPr sz="3200"/>
            </a:b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Un modello riproducibile - 2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Verdana"/>
              </a:rPr>
              <a:t>La collaborazione con l’USP e l’US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per la promozione e la diffusione del Proget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Verdana"/>
              </a:rPr>
              <a:t>L’individuazione di un dirigente scolastico e di una scuola che coordini il progetto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reperisca le risorse finanziarie e logistiche e coinvolga il personale ATA nel supporto del proget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Verdana"/>
              </a:rPr>
              <a:t>L’individuazione della Commissione provinciale di Lettur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(circa 10 docenti ripartiti tra i tre ordini di scuola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Verdana"/>
              </a:rPr>
              <a:t>L’individuazione del Gruppo di docenti esperti delle nuove tecnologi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viana Ama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A6C2-C3E6-4AED-A1CC-135D43B2F4D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Il Progetto Fahrenheit 451</a:t>
            </a:r>
            <a:br>
              <a:rPr sz="3200"/>
            </a:b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Un modello riproducibile - 3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 docenti della Commissione Lettura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cc"/>
                </a:solidFill>
                <a:latin typeface="Verdana"/>
              </a:rPr>
              <a:t>docenti competenti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, che amino l’insegnamento e la lettura, capaci ed interessati a cogliere le riflessioni degli allievi, la freschezza,  la spontaneità, la profondità delle loro espressioni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pronti, con entusiasmo sempre giovane, a leggere gli scritti dei ragazzi, con menti aperte e spirito critico, ma amichevole ed accogliente nei confronti delle emozioni e sensazioni che gli studenti comunicano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disponibili a lavorare in gruppo, con intensità, anche senza retribuzion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viana Ama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21D0-9E80-441B-8C7F-75E4258CDC5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Il Progetto Fahrenheit 451</a:t>
            </a:r>
            <a:br>
              <a:rPr sz="3200"/>
            </a:b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Un modello riproducibile - 4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I Docenti per lo Sviluppo informatico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docenti competenti, interessati ad offrire le loro capacità a supporto della promozione della lettura e della scrittur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bili nel coinvolgere eventuali classi nello sviluppo informatico del sito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apaci di lavorare con intensità, anche senza retribuzion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viana Ama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6D19-CCAE-4D89-9A25-A8AF0EC5188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Il Progetto Fahrenheit 451</a:t>
            </a:r>
            <a:br>
              <a:rPr sz="3200"/>
            </a:b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Un modello riproducibile - 5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7280" y="1827000"/>
            <a:ext cx="756144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Risorse finanziarie e logistiche</a:t>
            </a:r>
            <a:r>
              <a:rPr b="0" lang="it-IT" sz="21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Verdana"/>
              </a:rPr>
              <a:t>Coinvolgimento dell’U.S.P., dell’U.S.R., di Istituti/Fondazioni bancarie, Enti territoriali e Agenzie produttive,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cc"/>
                </a:solidFill>
                <a:latin typeface="Verdana"/>
              </a:rPr>
              <a:t>per il finanziamento</a:t>
            </a:r>
            <a:r>
              <a:rPr b="0" lang="it-IT" sz="21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2100" spc="-1" strike="noStrike">
                <a:solidFill>
                  <a:srgbClr val="000000"/>
                </a:solidFill>
                <a:latin typeface="Verdana"/>
              </a:rPr>
              <a:t>dell’hardware e software di supporto al motore di ricerca e al sito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2100" spc="-1" strike="noStrike">
                <a:solidFill>
                  <a:srgbClr val="000000"/>
                </a:solidFill>
                <a:latin typeface="Verdana"/>
              </a:rPr>
              <a:t>dei buono-libri,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Verdana"/>
              </a:rPr>
              <a:t>di un riconoscimento ai docenti impegnati nella Commissione lettura e nello Sviluppo informatico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cc"/>
                </a:solidFill>
                <a:latin typeface="Verdana"/>
              </a:rPr>
              <a:t>per la concessione di una sala adeguata</a:t>
            </a:r>
            <a:r>
              <a:rPr b="0" lang="it-IT" sz="2100" spc="-1" strike="noStrike">
                <a:solidFill>
                  <a:srgbClr val="000000"/>
                </a:solidFill>
                <a:latin typeface="Verdana"/>
              </a:rPr>
              <a:t> alla premiazion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viana Ama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AFB8-412B-4405-AC26-4E6402817923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http://fahrenheit.scuole.bo.it</a:t>
            </a:r>
            <a:br>
              <a:rPr sz="3200"/>
            </a:br>
            <a:r>
              <a:rPr b="0" lang="en-US" sz="3200" spc="-1" strike="noStrike" u="sng">
                <a:solidFill>
                  <a:srgbClr val="0000cc"/>
                </a:solidFill>
                <a:uFillTx/>
                <a:latin typeface="Arial"/>
              </a:rPr>
              <a:t>Il Logo del progetto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348000" y="2133720"/>
            <a:ext cx="4319640" cy="3341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2771640" y="2133720"/>
          <a:ext cx="4824720" cy="3310920"/>
        </p:xfrm>
        <a:graphic>
          <a:graphicData uri="http://schemas.openxmlformats.org/drawingml/2006/table">
            <a:tbl>
              <a:tblPr/>
              <a:tblGrid>
                <a:gridCol w="4824720"/>
              </a:tblGrid>
              <a:tr h="331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viana Amat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51F3-292B-496D-A548-1349FF6078E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PROGETTO </a:t>
            </a:r>
            <a:br>
              <a:rPr sz="3200"/>
            </a:b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FAHRENHEIT 451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15640" y="1557000"/>
            <a:ext cx="756756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Per lo scienziato e' il grado di temperatura a cui brucia la carta nella scala anglosassone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per il lettore e' il titolo di un romanzo di fantascienza dello scrittore Ray Bradbury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per il cinefilo e' un film del regista francese Francois Truffau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per i ragazzi che hanno partecipato alle precedenti edizioni e' stata una piacevole esperienza di studio e di festa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 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per noi promotori del Progetto, e' l'occasione per comunicare di nuovo con voi attraverso i libri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Come sanno i partecipanti alla passata edizione di FAHRENHEIT 451, Montag, il protagonista del romanzo a cui abbiamo rubato il titolo per il Progetto, e' un pompiere del tutto particolare: non spegne incendi, bensi' attizza fuochi a spese dei libri. Nel rispetto della legge, stana lettori sovversivi e requisisce i loro libri per bruciarli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Ma la resistenza e' piu' che mai attiva; piu' di 20.000 ragazze e ragazzi, sparsi nelle scuole del territorio, hanno trasmesso ai loro coetanei l'amore per i libri. Ti invitiamo ad unirti a loro.....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viana Ama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65BF-0210-4CB4-9199-4102EA5C0E6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http://fahrenheit.scuole.bo.it</a:t>
            </a:r>
            <a:br>
              <a:rPr sz="3200"/>
            </a:br>
            <a:r>
              <a:rPr b="0" lang="en-US" sz="3200" spc="-1" strike="noStrike" u="sng">
                <a:solidFill>
                  <a:srgbClr val="0000cc"/>
                </a:solidFill>
                <a:uFillTx/>
                <a:latin typeface="Arial"/>
              </a:rPr>
              <a:t>IL SITO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403280" y="1557360"/>
            <a:ext cx="7313760" cy="4608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viana Amat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83AD-3C43-4303-95AE-29206FA333A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800" spc="-1" strike="noStrike">
                <a:solidFill>
                  <a:srgbClr val="0000cc"/>
                </a:solidFill>
                <a:latin typeface="Arial"/>
              </a:rPr>
              <a:t> </a:t>
            </a:r>
            <a:r>
              <a:rPr b="1" lang="it-IT" sz="3600" spc="-1" strike="noStrike">
                <a:solidFill>
                  <a:srgbClr val="0000cc"/>
                </a:solidFill>
                <a:latin typeface="Arial"/>
              </a:rPr>
              <a:t>http://fahrenheit.scuole.bo.it 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I numeri di Fahrenheit 451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precedente Edizione 2009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Hanno partecipato al concorso 2251 recensioni, composte da 2010 alunni appartenenti a 79 scuole. Sono stati recensiti 1300 libri scritti da 793 autori. Sono state premiate 87 recensioni. 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cc"/>
                </a:solidFill>
                <a:latin typeface="Verdana"/>
              </a:rPr>
              <a:t>Nei suoi otto anni di attività risultano archiviate nel motore di ricerca della banca dati 10994 recensioni di 8481 studenti su più di 20.000 recensioni inviate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viana Ama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B59C-1524-4EE3-9EF3-5809CC71464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cc"/>
                </a:solidFill>
                <a:latin typeface="Arial"/>
              </a:rPr>
              <a:t>http://fahrenheit.scuole.bo.it </a:t>
            </a:r>
            <a:br>
              <a:rPr sz="3200"/>
            </a:br>
            <a:r>
              <a:rPr b="1" lang="it-IT" sz="2800" spc="-1" strike="noStrike">
                <a:solidFill>
                  <a:srgbClr val="0000cc"/>
                </a:solidFill>
                <a:latin typeface="Arial"/>
              </a:rPr>
              <a:t>Raccolte e approfondimenti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69800" y="1699920"/>
            <a:ext cx="731340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55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55000"/>
              </a:lnSpc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cc"/>
                </a:solidFill>
                <a:latin typeface="Verdana"/>
              </a:rPr>
              <a:t>Quindici anni di recensioni: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55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cc"/>
                </a:solidFill>
                <a:latin typeface="Verdana"/>
              </a:rPr>
              <a:t>    </a:t>
            </a:r>
            <a:r>
              <a:rPr b="0" lang="it-IT" sz="2900" spc="-1" strike="noStrike">
                <a:solidFill>
                  <a:srgbClr val="0000cc"/>
                </a:solidFill>
                <a:latin typeface="Verdana"/>
              </a:rPr>
              <a:t>raccolta-</a:t>
            </a:r>
            <a:r>
              <a:rPr b="0" i="1" lang="it-IT" sz="2900" spc="-1" strike="noStrike">
                <a:solidFill>
                  <a:srgbClr val="0000cc"/>
                </a:solidFill>
                <a:latin typeface="Verdana"/>
              </a:rPr>
              <a:t>“Il piccolo principe”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5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65000"/>
              </a:lnSpc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900" spc="-1" strike="noStrike">
                <a:solidFill>
                  <a:srgbClr val="0000cc"/>
                </a:solidFill>
                <a:latin typeface="Verdana"/>
              </a:rPr>
              <a:t>La didattica nel progetto Fahrenheit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65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900" spc="-1" strike="noStrike">
                <a:solidFill>
                  <a:srgbClr val="0000cc"/>
                </a:solidFill>
                <a:latin typeface="Verdana"/>
              </a:rPr>
              <a:t>   </a:t>
            </a:r>
            <a:r>
              <a:rPr b="0" i="1" lang="it-IT" sz="2900" spc="-1" strike="noStrike">
                <a:solidFill>
                  <a:srgbClr val="0000cc"/>
                </a:solidFill>
                <a:latin typeface="Verdana"/>
              </a:rPr>
              <a:t>451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it-IT" sz="2900" spc="-1" strike="noStrike">
                <a:solidFill>
                  <a:srgbClr val="0000cc"/>
                </a:solidFill>
                <a:latin typeface="Verdana"/>
              </a:rPr>
              <a:t>La banca dati di Fahrenheit 451</a:t>
            </a:r>
            <a:r>
              <a:rPr b="0" lang="it-IT" sz="2900" spc="-1" strike="noStrike">
                <a:solidFill>
                  <a:srgbClr val="0000cc"/>
                </a:solidFill>
                <a:latin typeface="Verdana"/>
              </a:rPr>
              <a:t>: </a:t>
            </a:r>
            <a:r>
              <a:rPr b="0" i="1" lang="it-IT" sz="2900" spc="-1" strike="noStrike">
                <a:solidFill>
                  <a:srgbClr val="0000cc"/>
                </a:solidFill>
                <a:latin typeface="Verdana"/>
              </a:rPr>
              <a:t>la Scuola, laboratorio per la Scuola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65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Il contributo dell'ITIS Belluzzi di Bologna al progetto(docente Duilio Peroni)</a:t>
            </a: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viana Ama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10C6-6EF2-471C-B3CA-A3295864695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PROGETTO FAHRENHEIT 451 </a:t>
            </a:r>
            <a:br>
              <a:rPr sz="3200"/>
            </a:b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Presupposti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La lettura e la scrittura, non solo abilità fondamentali, ma elementi fondanti della formazione personale e del benessere della person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romuovere la lettura e la scrittura, come piacere, non come “compito”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Il libro come strumento insostituibile nello sviluppo di conoscenze e competenze e nella formazione personal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utilizzo consapevole delle nuove tecnologie, a supporto e non in antitesi della lettur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viana Ama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B4DB-83FB-4678-9B8B-08A23F4D773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8:31:59Z</dcterms:created>
  <dc:creator>Gian Luigi Zigiotti</dc:creator>
  <dc:description/>
  <dc:language>en-US</dc:language>
  <cp:lastModifiedBy> </cp:lastModifiedBy>
  <dcterms:modified xsi:type="dcterms:W3CDTF">2010-03-25T11:49:58Z</dcterms:modified>
  <cp:revision>24</cp:revision>
  <dc:subject/>
  <dc:title>PROGETTO  FAHRENHEIT 451</dc:title>
</cp:coreProperties>
</file>